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813-6F47-4B2E-AA36-81F05CE0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377-6E0A-4EAB-A164-CC7AAAF7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355-0B89-4B4A-B127-D13E1B58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CCD-D04A-4D67-AF32-F166F79B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F44-FEDC-40CD-9378-E99620D8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F674-4B3A-4D43-BE37-C9F3F09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3F3-F578-40CB-A43C-FE89CAB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DC04-DE9A-4FB2-B37D-29B51C5C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F323-B800-4280-B025-3B617892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EF58-DA83-4DD1-B725-C1011FC3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601-A30A-4783-A0A1-D8599B2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ED1-4172-49DF-89B9-99CACA80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A6F8-6E0F-4F20-B1B4-D61FAB3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FB01-CCF1-46E4-A593-A13DC18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EC4E-674B-4327-A0ED-6293E714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A59-A8A4-4E30-96CD-6269CCA8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57C4-8C75-456B-BDC5-9DE14BB2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0EA-804E-4B51-83C1-64E21D2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F83-0232-4A35-9A8A-E65AEA49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371-0C47-4271-B0AC-EA77901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088-44CD-4911-B0B5-7B3ACF6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383-747F-437A-9A20-B28DC75D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8D4-71F5-42D1-8FC3-8284DAE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F6C-D9A0-4113-A959-913A6A1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780-BF9D-4EB0-9E04-9939EA098A1B}" type="datetime">
              <a:rPr b="0" lang="sr-Latn-CS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2D9-BE56-4143-88A5-FAE44A4D4C6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F436-0330-47EC-92C0-82D8C2243CBB}" type="datetime">
              <a:rPr b="0" lang="sr-Latn-CS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D95-269E-4578-B92D-1B7D93ECD5EE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nimanje dokaznih i drugih radnji u prethodnom i kaznenom postup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436640"/>
            <a:ext cx="792468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orka Fumi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mjenica Glavnog državnog odvjetnika Republike Hrvats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avez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Postupanje sa snimk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 ispitivanju okrivljenika izrađuju se tri snimke, od kojih će se jedna zapečatiti i predati sucu istrage radi čuvanj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(zapečaćeni omot potpisuje osoba koja je provela ispitivanje, okrivljenik, branitelj ako je prisutan i stručna osoba koja je provela snimanj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 jedna snimka odmah se predaje državnom odvjetniku i okrivlje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Napomena: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snimka koja se predaje državnom odvjetniku je tzv. „original” i čuva se u spisu predmeta, dok se za potrebe rada na predmetu (prepisivanja, pregledavanja i sl.) odmah izrađuje četvrta snimka-radna kop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zakoniti do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nimka o ispitivanju okrivljenika ne može se upotrijebiti kao dokaz u postupku-čl. 281. Zako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ispitivanje okrivljenika nije snimljeno audio-vizualnim uređaj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uređajem nije rukovala stručna os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nije uneseno upozorenje da se ispitivanje snima i da snimljene izjave mogu biti upotrijebljene kao dokaz u postup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nije uneseno upozorenje i izjava okrivljenika o korištenju prava da uzme bran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o ispitivanju nisu izrađene tri snimke, od kojih se jedna pečati i predaje sucu istrage na čuvanje, a preostale dvije odmah predaju državnom odvjetniku i okrivljeni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avez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uočenje okrivljenika i svjedo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čl. 278., čl. 289. Za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krivljenik i svjedok mogu biti suočeni sa svjedokom ili drugim okrivljenikom ako se njihovi iskazi ne slažu o važnim činjenicama (nema suočenja ako je svjedok dij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očeni će se posebno ispitati o svakoj okolnosti o kojoj se njihovi iskazi međusobno ne slažu, a njihov odgovor unijeti u zapis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jednom se mogu suočiti najviše dvije os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očenje koje se provodi tijekom istrage mora biti snimljeno uređajem za audio-video snimanje, u protivnom zapisnik o suočenju ne može se upotrijebiti kao do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kultativ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nimanje ispitivanja svjedo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čl. 87. st. 2. Zakon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tijelo koje provodi dokaznu radnju, uvijek može odrediti da se radnja  snimi uređajima za audio ili audio-video snim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a se dokazna radnja ispitivanja svjedoka snima, snimka mora sadržavati sva upozorenja  i podatke navedene u čl. 87. st. 3. do 6. Za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zahtjev ispitane osobe snimka će se odmah reproducirati, a ispravci ili objašnjenja te osobe će se snim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kultativ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417680"/>
            <a:ext cx="83026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Snimanje ispitivanja svjed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spitivanje svjedoka koje se obavlja preko tumača može se snimiti uređajem za audio-video snimanje, a snimka se priključuje zapisniku - čl. 290. st. 2. Zak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spitivanje svjedoka koje se provodi u njihovom stanu ili na drugom mjestu (svjedoci koji se zbog starosti, zdravstvenog stanja ili invaliditeta ne mogu odazvati pozivu) može se po potrebi snimiti uređajem za audio-video snimanje, a snimka se pečati i priključuje zapisniku-čl. 292. st. 3. Zak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Ispitivanje i snimanje svjedoka koji je ujedno i žrtva kaznenog djela protiv spolne slobode, trgovanja ljudima ili kaznenog djela počinjenog u obitelji, na način određen u st. 3. čl. 292. Zakona, može se provesti samo na zahtjev žrtve - čl. 292. st. 4. Zak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ebnosti ispitivanja djeteta kao svjedoka - čl. 291. st. 1. i 2. Za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tivanje djeteta koje nije navršilo četrnaest godina provodi sudac istrage (ispitivanje se provodi bez prisutnosti suca i stranaka u prostoriji gdje se dijete nalazi putem audio-video uređaja kojima rukuje stručni pomoćnik, ispitivanje se snima uređajem za audio-video snimanje, a snimka se pečati i priključuje zapisni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tivanje djeteta s navršenih četrnaest, a nenavršenih osamnaest godina provodi sudac istrage, a ovisno o okolnostima i vodeći računa o zaštiti djeteta, može se provesti na gore opisani nač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propis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hničke uvjete i način audio-video snimanja ispitivanja okrivljenika te dokazne ili druge 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štitu snimke od brisanja i ošteć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čin čuvanja snim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učna osoba za rukovanje opremom za audio-video snimanje je osoba koja je u tu svrhu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prošla edukaci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Pravosudnoj akademiji ili Policijskoj akademiji te je nakon edukacije dobila odgovarajuće uvjer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bavezan sadržaj snimk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ziv državnog tijela koje provodi radn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jesto obavljanja rad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an i sat početka i završetka rad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mena i prezimena svih prisutnih osoba i u kojem svojstvu su prisut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znaka kaznenog predmeta u kojem se radnja poduz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drugi podaci propisani Zakonom o kaznenom postup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Ruko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 snimkama ispitivanja okrivljen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da završi ispitivanje ili provođenje dokazne ili druge radnje, osoba koja upravlja snimanjem daje nalog za završetak snimanja i objavljuje da je snimanje završeno, nakon čega stručna osoba zaustavlja snim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 završetku ispitivanja okrivljenika izrađuju se tri snimke (rukovanje snimkama jednako kao u Zakonu o kaznenom postup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o je ispitivanje proveo istražitelj, jednu snimku odmah predaje okrivljeniku, dok ostale dvije snimke (osnovnu-zapečaćenu i nezapečaćenu) uz zapisnik o provedenom ispitivanju dostavlja državnom odvjetni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avni okv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o kaznenom postupk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NN 152/08, 76/09, 80/11, 91/12-Odluka Ustavnog suda RH, 143/12, 56/13, 145/13, 152/14, 70/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NN 85/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ovnik državnog odvjetništv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NN 5/14. 123/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520" y="1980720"/>
            <a:ext cx="82184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Ruko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 snimkama ispitivanja svjedoka i suoč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nimka se stavlja u za to predviđenu omotnicu i potom peč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 omotnici se potpisuju: osoba koja je provela ispitivanje ili suočenje, osoba koja je ispitana, stručna osoba koja je obavila snimanje te okrivljenik i branitelj ako su prisut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nimka je sastavni dio zapisnika i čuva se u spisu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nu nezapečaćenu snimku ispitivanja svjedoka zadržava državni odvjetnik, dok se druga nezapečaćena snimka predaje okrivljeniku ako je prisutan ispitivanju, a u protivnom se čuva u spisu predmeta i predaje okrivljeniku na njegov zahtjev i kada mu Zakon o kaznenom postupku dozvoljava uvid u spis predm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ilnik o snimanju dokazne ili druge radnje u prethodnom i kaznenom postup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Ruko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a snimkama ispitivanja svjedoka i suoč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ispitivanje svjedoka proveo istražitelj, osnovnu zapečaćenu snimku i nezapečaćene snimke uz zapisnik predaje državnom odvjetniku, dok ukoliko je ispitivanju bio prisutan okrivljenik, istražitelj mu odmah predaje jednu nezapečaćenu snim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pečaćena snimka može se otvoriti po nalogu suda te se čuva dok se čuva i spis pred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ovnik državnog odv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Arial"/>
              </a:rPr>
              <a:t>Standardi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sobe za ispitivanj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ličina sobe - najmanje 25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ehnički uređaji za snimanje: centralni uređaj za audio-video snimanje s monitorom, najmanje tri DVD snimača, dvije kamere, vanjski mikrofon, monitor od najmanje 107 cm dijagonale ekrana s mogućnošću montaže na zid, uređaj za neprekidno napajanje i zidni 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pored kamera (i namještaja) mora omogućavati istovremeno snimanje cijele prostorije s ulaznim vratima, snimanje osobe koja se ispituje u krupnom planu, nesmetan pogled ispitivača i branitelja na zidni monitor, te snimka cijele prostorije mora obuhvaćati i zidni sat radi dvostruke kontrole vremena ispit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posobljavanje stručnih osoba - dosadašnja isku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je ko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rije početka snim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oduzima stručna oso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jmanje petnaest minuta prije početka snimanja provjerava ispravnost i funkcionalnost opreme za snimanje te ispravnost DVD me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ez te provjere snimanje ne može započ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va odgovarajuće omotnice radi spremanja snimljenih DVD medija nakon završetka s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posobljavanje stručnih osoba - dosadašnja isku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je ko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tijekom sniman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uzima stručna oso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sebnu pažnju obraća na naloge koje daje osoba koja provodi radnju vezano za početak i  završetak snimanja te prekid s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kom cijelog snimanja kontrolira ispravnost s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jmanje deset minuta prije isteka vremena (na jedan DVD medij moguće snimiti dva sata zapisa) upozorava osobu koja provodi radnju o isteku raspoloživog vremena s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posobljavanje stručnih osoba - dosadašnja isku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nje ko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akon završetka sniman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uzima stručna oso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laže snimljene DVD medije u odgovarajuće omotnice i vodi brigu da omotnica u kojoj se nalazi osnovni snimak bude potpisan  od osoba koje su sudjelovale u provođenju 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žan je osigurati da se jedan primjerak DVD medija o ispitivanju okrivljenika dostavi sucu istrage uz dopis koji po završetku ispitivanja sačinjava zapisnič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posobljavanje stručnih osoba - dosadašnja isku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dnje koje </a:t>
            </a:r>
            <a:r>
              <a:rPr b="0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nakon završetka snima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poduzima stručna osob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koliko osoba koja je provela radnju naloži izradu transkripta obrane okrivljenika, stručna osoba formatira snimljeni DVD radi sprječavanja dosnimavanja te sa snimljenog DVD-a izdvaja zvučni zapis i prenosi ga na računalo zapisničara koji sačinjava transkrip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 nalogu osobe koja je provela radnju izrađuje kopije DVD-a (sigurnosna kopija, kao i kopije koje prilikom uvida u spis zatraže osobe koje na to imaju pravo po Zakonu o kaznenom postupk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VALA NA PAŽNJ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odredbe o snimanju-čl. 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sprava, dokazna radnja ili druga radnja snima se uređajima za audio-video ili audio snimanje uvijek kada je to propisano  ovim Zakon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im slučajeva propisanih Zakonom, tijelo koje provodi dokaznu radnju može odlučiti da se snima i druga dokazna rad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ijelo koje provodi radnju dužno je upozoriti osobe koje sudjeluju u radnji, da se radnja snima određenim tehničkim uređajem i da snimka može biti upotrijebljena kao dokaz u postup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odredbe o snimanju-čl. 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Obavezan sadržaj snim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aci iz čl. 83. st. 1. Zakona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(naziv državnog odvjetništva, mjesto obavljanja radnje, dan i sat početka i završetka radnje, imena i prezimena svih prisutnih osoba i u kojem svojstvu su prisutne, te naznaka kaznenog predmeta u kojem se radnja poduzim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aci potrebni za identifikaciju osobe čija se izjava snima kao i podatak u kojem svojstvu ta osoba daje izj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zahtjev ispitane osobe snimka će se odmah reproducirati, a ispravci ili objašnjenja te osobe će se snim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odredbe o snimanju-čl. 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Obavezan sadržaj zapisn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odaci iz čl. 83. Zak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konstatacija da je obavljeno tehničko snim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tko i kojim uređajem je obavio snim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da je osoba koja se ispituje prethodno upoznata o snimanju, kratki sadržaj danih iskaza i izjava i je li snimka reproducirana te gdje se snimka čuva ako nije priložena spisu predme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odredbe o snimanju-čl. 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lo koje provodi radnju (sud ili državni odvjetnik) može odrediti da se snimka u cijelosti ili djelomično prepiš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jepis će se pregledati i ovjeriti potpisom osobe koja je odredila i koja je sačinila prijep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Ako je državni odvjetnik naložio izradu prijepisa, dužan je sravniti prijepis s audio zapis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jepis će se priključiti spisu predmeta i ne predstavlja dokaz u postup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baveza čuvanja snimke - dok se čuva i kazneni sp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avez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Ispitivanje okrivljenik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-čl. 275. Zak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vo i sva daljnja ispitivanja okrivljenika u prethodnom postupku snimaju se uređajem za audio-video snimanje (do Novele iz prosinca 2013.-NN 145/13 obaveza snimanja bila je propisana samo za prvo ispitivanje okrivljenik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ređajem rukuje stručna oso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avez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Ispitivanje okrivljeni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čl. 275. Zak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ijelo koje provodi ispitivanje, osim upozorenja okrivljeniku vezanih uz primitak pouke o pravima (čl. 273. st. 1. Zakona), unijeti će u zapisnik i slijedeća upozore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 se ispitivanje snima i da snimljene izjave mogu biti upotrijebljene kao dokaz u postup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ozorenje i izjavu okrivljenika o korištenju prava da uzme bran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on o kaznenom postupku</a:t>
            </a:r>
            <a:br>
              <a:rPr sz="32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avezno snim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Ispitivanje okrivljenik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– čl. 275. Zak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lo koje provodi ispitivanje navesti će podatke koje mora sadržavati zapisnik o ispitivanju okrivljenika (čl. 83. st. 1. i čl. 272. st. 1. Zakona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datke o snimanju (čl. 87. st. 5. Zak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značiti će početak, svaki prekid, nastavak i završetak snimanja kao i druge okolnosti koje mogu biti značajne za tijek ispit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zapisnik o ispitivanju okrivljenika 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ne unosi s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iskaz okrivlj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ita Lazarin</dc:creator>
  <dc:description/>
  <dc:language>en-US</dc:language>
  <cp:lastModifiedBy>Zorka Fumić</cp:lastModifiedBy>
  <dcterms:modified xsi:type="dcterms:W3CDTF">2019-10-15T08:00:01Z</dcterms:modified>
  <cp:revision>6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